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EE424-E4EF-4D07-868C-253B59DC5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9407D-A65C-4CEC-82AB-5C32993A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9DEF3-42E5-4DF4-985B-068EB605E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299A2-F622-4D15-959F-AA4E8E64B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68D49-B0C1-4D35-8D91-201809DD3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A6C0A-2AA9-4BB1-BA05-BAB07759F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AF371-D226-46F3-BFAF-9D1B2CC70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20A-1BCF-4D79-8916-ABAEA367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7C5-1080-467D-B334-0EE4C3BB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8802F-4DF9-423D-838E-99C72F83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0149F-11AE-4903-BDA7-C766938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DC7B7-6321-413F-AE06-1D90384B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47601-5121-4F0C-BE26-E2C3124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F99F-0012-436B-844A-FD98795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0C121-2F9A-411A-AF14-A496B128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4EAFC-E5AA-47FE-BADB-8F51FDD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03EB2-AEB0-45AE-94A6-68190ACD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2BD4A-BB84-48CC-96D8-4C4F0E86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51AF4-CC08-4F04-BD48-EF18B621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C19-B17A-480A-A8C2-435D8F99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46E0E-9FFB-4E13-8A22-FC81F6DA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5249F-9416-4E46-8C0A-65095BF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C06D2-5A76-4AB5-9F0D-FE120B7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7FE8-375B-4CC9-A207-4849AC2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6D296-3C4C-4A3F-9B0C-A3211D84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2EEDF-1B6C-4D0C-BC19-F33E44AE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86674-E167-4BB4-8297-44AE11D5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E0A2-0994-401D-AC85-2BAC874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C26D8-78F5-4FFB-BE26-B27BD51B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E3BD1-E3ED-4A70-88C0-E954F81F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297-7EDC-4C39-ABB8-1344D118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1D6E3-B271-47B9-9ECB-DB7E5A15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39173-F4C9-4B17-B084-3E09BD5B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3181E-4043-4D6B-B30A-8657516C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674F9-A644-4050-ABA6-1EDD4EA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F8BC-D942-4C2A-9E25-8E559316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4D255-B53C-44C7-9751-ED51F0E5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FC719-137A-41C5-B5D2-81D11FB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A97F0-2B67-4265-B7A7-CFBB39C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B4363-E362-4307-95E5-AB23E19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510D6-E295-4EBE-A3AF-97F6A21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4596-DDF7-41B7-A20F-91E6B597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E8527-7062-4454-8AAB-7D4F3D20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E897-4819-4B84-9A9C-51788AA3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B5051-529C-416A-A67C-4D476EBF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D9A2-162C-4CE8-82F3-D6EB4540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83EE4-8C40-403E-96C2-93278E83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B35A9-8E80-4A39-B067-5F4052E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18FF7-BD1D-4A86-BA78-CD0619A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59DD8-61AA-4DE0-9440-98AF332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5F780-899D-467D-8D0E-BD26CC8A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527CB-CEFC-4AB7-B17A-F5FA350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00B3-F368-404F-AA45-8F944742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D8D51-B36F-44B8-A9E0-4FC424BD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52C79-8E48-4A13-9318-0A9A772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FDEFA-F263-4453-A334-34E2D8EF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D225C-E8CD-4A4B-9BD7-56CEAEA9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829DB-2E5D-480D-BED7-66B2DA04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D3F-9B62-4913-8EC0-3E12518B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AF8A-4CAC-4676-B8CE-CD5B7D8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E41C-E76F-43C1-B0AE-313F40F1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5F4-6E65-44A7-B3BC-1B126141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6A4-FA41-48E4-AD3F-4D28C47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275-4CFC-4594-AD3F-42F999E1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E629-680B-428D-A3DD-E82F257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B01C-A0BC-4124-87BD-C24F8B6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6EB-F46B-4E08-B4B7-027B7C0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D04-A9FB-40EC-B5B4-5C3472F0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71BA-DA81-48DD-8B69-30DD1423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A2D34-A620-4EA7-9505-5004C28E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E3E7-94A5-4318-8C33-43FCCDD9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9E25-3515-449D-88DE-E6CF709A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926E-2EB3-4C77-B14B-1AFB808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05BB-9684-432A-BFE3-A1F7C5F5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E2F-BA42-49C7-B8A5-FEE73F70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F27FE-3FE8-4813-B4AA-507AE5B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A4A3-41A8-44C6-BB50-576744F4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5D28-7699-4A1D-A8E8-7B320BD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23D1-CD83-4835-A9A6-F2FE193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E132-36F0-4384-B232-6A69F2A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AFE4-AB5D-49CD-9EDE-33C89AE1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C83A-E984-4F75-B6C9-8FDD78B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2D47-584F-4369-AC6A-CDF8288A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821B-2205-4A73-B1E8-0875DB74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37FB-55CC-4CE7-8EC2-B0AAE156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8E2-C447-4F67-8E48-4F3E992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E19F-C69A-44F2-9DDB-1FA0A011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AB16-96A0-428C-B816-B8E4667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C849-20CC-4FCF-8A19-1F1900C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81401-D5DB-4C37-81F1-16CB36F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F7E8-B789-4D78-8667-AD2EA1AE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2132-0321-4EE7-ADAC-039F082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69FC-DC27-4989-BE1F-B254BBBA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1F77-B02D-49CE-8B39-2742C155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AB36D-9E3A-4823-8FAE-7A6B651B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6F4E2-68CF-481B-B472-16AC1D7E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F6B-F83D-4894-87DB-A5BB81B5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D00C-F5C9-4FC3-910A-896CFAD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5C37-BAB4-48EC-A747-87AA706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69DEA-D438-4236-9BD6-3B442A76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2704-1D0D-4DB8-8CF1-57FE3D5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55FB-645F-432E-A6C9-4315820E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1A221-376F-4084-A9FB-E2CED18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BFD44-0A44-48B7-89C1-CF6B7B2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765C9-DEE4-41F3-A5F7-C45B3B70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EE55-1796-4429-9B64-F1BDCFB4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8FEDA-F63B-4066-8696-90EB25F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AFD-119E-47ED-B310-EFFA5C0D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2CF6-2E90-42A7-AAFA-C52829B8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E517-0366-4D80-A718-E2B57679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69D2-ACFE-48BA-9979-338D4D8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CD08-F00F-40C3-8516-4E5013F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9317-6F07-47C4-9075-1E42534D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7418-97A5-4847-A8BA-1BA9067F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9AB1-904A-47D7-8B0E-73B0036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5AAA-1049-45AD-8752-EB5D536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AB3B8-27EC-4CE9-82A6-A4C32E5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9A57-801A-4A87-AB0C-BAF96D6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490-C997-4E28-A875-2A63BDA1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CED1-81B0-4920-81E6-E3BD4B7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48AE-7C6F-4F7A-A856-F6C56986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32754-FCD8-43D5-9641-9E09CB1E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DDD5C-7524-4FEA-9198-0D510A91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175BD-DE35-47B4-94DE-FEBC6451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44E98-F983-4811-A250-1E1A7580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A2C82-CE92-4048-8109-907BE9E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D84A-8A1A-444A-8652-1659597B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2AC1-CEDA-40F2-A302-10B03792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D6442-5B0C-4C6C-AD11-7CED38CA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0D6-81FA-4E93-971C-B1CC90D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29E9-B631-45CF-8FB5-B16A8E2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7062-167B-462D-9854-CA8FC6B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F49C-9317-4C82-BF46-B48655C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561B-3B58-423D-9BAA-963250CC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5C7F-D00F-404D-9985-E3BED057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B538-4D5C-4CEF-A6DF-ED07DB13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07FF2-7A85-453E-94F2-8C60BAA0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D612-91A5-427A-B449-F315AACB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19090-7CD2-41A8-8E65-7CCE4789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671B1-7B2A-4BA8-821D-63769928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B3B-BE66-4FCA-B175-D225D607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3F786-8D66-4C1E-BA01-DDF5E7C8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F684F-7C78-47B1-8178-AF3683E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6638-9F1F-430F-B65B-667F2611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CD39-235C-489F-B9BA-ADE762C9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E4153-B19E-45BD-96BD-C058D44C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D99A-2673-44B8-9F1D-113DC9DA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E4A9-7977-47A3-B5FB-A5955718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609DA-8945-4F17-9323-9D2F20DC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4C7D0-C555-4DA1-BF1E-F0CA643F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78B97-1236-45DB-983A-68C7E951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E3863-1B33-404D-A0F6-50A6DACF42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3C391-6D77-445D-B9A4-A8B7DD589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A4D958CE-3B5C-4164-93FC-378473175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E28BC-BC62-4AAE-9314-11B41331EB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215AB-D131-4E0B-B949-3A0E37F78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73424-ACD9-4141-AF06-12F2EEE351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58164-F046-4398-9490-5FF66C18D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6F03A-5233-45C9-A706-AF9697E2A0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4C2F2-798E-4275-A0E2-C6ED78130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E0506-8AC1-41C7-B2A0-638E7AEBE6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73B4F-17B1-430B-90DB-4C2F597F9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790D7-E200-4E4A-AA5D-2393A119C4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05E94-7F95-47FE-9A6B-DA99DE853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DCE9B-6702-466E-9D1B-9DEDC8AC6B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8BB22-6F5F-4689-90AB-04D23FE58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A78B0-2E09-4A45-95AC-30314E9E1F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040AF-139B-4A84-93DA-91B8B9AC4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87FA2-2052-4C8A-9DF5-D19AE1D9F2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F26BA-2651-4DDC-8B0E-7B3FC5A71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645D0-E26C-4927-879D-5E89446D75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B2B2A-DE21-4817-882D-1DD6A4C0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01131-B8CE-42D8-B0BC-D9A00A0B04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D885F-FCBE-469A-A709-005F1C8D6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0AB45-9009-4F54-A8D9-69770A6FC1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DB05F-05E5-415A-A6F6-2CCC4EBB3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44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Formy kontr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dministrativní kontroly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– formou pravidelných monitorovacích zpráv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ontroly na místě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– formou veřejnoprávní kontroly podle zák. č. 320/2001 Sb. a zákona 552/1991 Sb., v souladu s nařízením rady EK č. 1083/2006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etodická dohlídk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– nemá váhu veřejnoprávní kontroly. Výstupem je zpráva z průběhu dohlídky popisující stav věc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EBF0D-29E5-4182-9FAF-89F69490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Sank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% ze všech proplacených prostředků v případě neplnění jakéhokoliv indikátoru výsledku nebo výstupu o 10 % - 15 %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 % ze všech proplacených prostředků v případě neplnění jakéhokoliv indikátoru výsledku nebo výstupu o 15 % - 50 %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stoupení od právního aktu (100 %) v případě neplnění jakéhokoliv indikátoru výsledku nebo výstupu o více jak 50 %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51DE4-7A77-4846-81CA-DB48B6483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všech projektů s podporou nad 3 miliony Kč je nutné provést audit autorizovanou firmou (člen komory auditorů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rok auditora se přikládá k závěrečné žádosti o platb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se týká jak projektového účetnictví příjemce, tak projektového účetnictví partnerů s finančním příspěvkem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EC6BD-C387-419B-90D9-E5928C9A4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Kontroly, sank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ráva z externího auditu musí obsahovat informaci o následujících skutečnostech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 správnosti a úplnosti zaúčtování všech výdaj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šechny vykázané výdaje byly uhrazeny v souladu s pravidly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hodnocení postupu při zadávání veřejných zaká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věření souladu výdajů s platným rozpočte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skutečnosti zjištěné při auditorském šetř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CB8E1-87D1-4A5B-9334-E86D5475B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Archiv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29040" indent="-32904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Archivace v listinné i el. po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 archivaci je příjemce zavázán v právním akt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in. do roku 2025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 Příjemce je povinen zavázat k archivaci také partnery projektu (případně převzít materiály, týkající se realizace projektu, do své úschovy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lady na archivaci po ukončení realizace projekt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způsobilé výdaje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rchivace se řídí zákonem č. 563/199 Sb., č. 235/2004 Sb., č.589/1992 Sb., č. 592/1992 Sb., č499/2004 Sb. a vyhláškami č. 645/2004 Sb., a č. 646/2004 Sb. Archivace je uvedena v příručce, která je součástí Rozhodnut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38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529FF-9CEF-4D1B-A1AE-28E685C86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06360"/>
            <a:ext cx="6458040" cy="96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Archiv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329840" y="2171520"/>
            <a:ext cx="645804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ákladní pravidla archiv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ždy porovnat zálohovaná data s originálem - verifika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jistit trvalost uložených dat v průběhu stanovené archivační dob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aždé médium po archivaci označit datem, názvem a popisem jeho obsah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kumentaci vést přehledně (uvádět číslo projektu, číslo monitorovací zprávy, datum) se snadnou dosažitelností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914400" indent="-457200" algn="just"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1627A-997A-4538-8DCB-77640EF91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Helvetica CE"/>
              </a:rPr>
              <a:t>Kde najít MZ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4B944-4C69-48AD-8979-E2A3BBB29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1616040" y="1952640"/>
            <a:ext cx="6172200" cy="3857760"/>
          </a:xfrm>
          <a:prstGeom prst="rect">
            <a:avLst/>
          </a:prstGeom>
          <a:ln w="0">
            <a:noFill/>
          </a:ln>
        </p:spPr>
      </p:pic>
      <p:sp>
        <p:nvSpPr>
          <p:cNvPr id="569" name="Šipka doleva 5"/>
          <p:cNvSpPr/>
          <p:nvPr/>
        </p:nvSpPr>
        <p:spPr>
          <a:xfrm>
            <a:off x="2971800" y="3184560"/>
            <a:ext cx="701640" cy="214200"/>
          </a:xfrm>
          <a:prstGeom prst="lef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Šipka doleva 7"/>
          <p:cNvSpPr/>
          <p:nvPr/>
        </p:nvSpPr>
        <p:spPr>
          <a:xfrm>
            <a:off x="4632480" y="2394000"/>
            <a:ext cx="979200" cy="484200"/>
          </a:xfrm>
          <a:prstGeom prst="leftArrow">
            <a:avLst>
              <a:gd name="adj1" fmla="val 50000"/>
              <a:gd name="adj2" fmla="val 374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10253f"/>
                </a:solidFill>
                <a:latin typeface="Helvetica CE"/>
              </a:rPr>
              <a:t>http://www.msmt.cz/strukturalni-fondy/prirucka-pro-prijemce-op-vk-verze-4-platna-od-30-6-2010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10253f"/>
                </a:solidFill>
                <a:latin typeface="Helvetica CE"/>
              </a:rPr>
              <a:t>      </a:t>
            </a:r>
            <a:r>
              <a:rPr b="0" lang="cs-CZ" sz="1800" spc="-1" strike="noStrike">
                <a:solidFill>
                  <a:srgbClr val="10253f"/>
                </a:solidFill>
                <a:latin typeface="Helvetica CE"/>
              </a:rPr>
              <a:t>http://www.msmt.cz/strukturalni-fondy/monitorovaci-zprava-a-jeji-prilohy-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M a F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37A0B-8507-43EA-8437-E18D4CA05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Helvetica CE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 u="sng">
                <a:solidFill>
                  <a:srgbClr val="e46c0a"/>
                </a:solidFill>
                <a:uFillTx/>
                <a:latin typeface="Helvetica CE"/>
              </a:rPr>
              <a:t>petr.kraselovsky@msmt.cz</a:t>
            </a: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E02E3-3E28-45B6-8AE6-73AE269A1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á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ledování využití finančních prostředků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klad pro kontroly a audi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204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1. Monitorovací obdob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začátku realizace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b) v souladu s kalendářními měsí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od prvního dne měsíce v němž začal projekt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5360" indent="-3153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Dodržovat celé období realiz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4DA87-4FEB-4238-852A-B0C6080B4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růběžná monitorovací zpráv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 30 kalendářních dnů od ukončení monitorovacího období (první MZ po 3 měsících, další MZ pak po 6 měsících realizace projektu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epsané statutárním zástupcem. Datum podpisu statutárního zástupce nemůže být dřívější než datum vyhotoven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2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zalepené obálce s adresou poskytovatele, jménem      příslušného PM a registračním číslem projektu. „Neotvírat – Monitorovací zpráva“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ctr"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Rozhoduje datum doručení poskytovateli podpory!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9312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294840" indent="-29484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F5BEC-2C57-4856-A16E-752E5DC8D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Žádost o plat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ouhrn všech způsobilých výdajů za uplynulé monitorovací období včetně podílu nepřímých výdajů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ůže zahrnovat i výdaje vzniklé v předchozím období, k nimž neměl příjemce v uvedenou dobu potřebné doklady. Podepsaná statutárním zástupcem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 projektu (kladné úroky) se z požadované částky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odečítaj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6600F-3ED5-48E6-8759-74663A109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Krácení částky v žádosti o plat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ůvody krácení jsou vždy sděleny písemně či elektronick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ovatel je oprávněn při schvalování MZ požadovat po příjemci doplněn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povinen tyto údaje poskytnout do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5 pracovních dnů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nestanoví-li poskytovatel lhůtu kratší)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EAA0F-178A-4972-8B0D-6656FAA85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imořádná průběž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je oprávněn předložit mimořádnou monitorovací zprávu spolu s žádostí o proplacení uznatelných nákladů v kratším obdob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sledná monitorovací období je opět šestiměsíční a počítá se od podání mimořádné průběžné monitorovací zprávy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B8A64-1571-4151-A26E-3D50F1C0F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ávěrečná monitorovací zprá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později do 2 měsíců po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projektů nad 3 mil. Kč se přikládá k žádosti o závěrečnou platbu i výrok auditora k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přikládá souhrnnou informaci o realizaci projektu včetně publicity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20FA4-0679-4F98-868A-54FEAFB36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a o udržiteln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spěvek z ESF bude zachován, pokud projekt v následujících 5 letech po ukončení neprojde podstatnou změnou, kter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vlivní povahu projektu nebo výsledky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skytne realizátorům nepatřičnou výhodu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jde ke změně vlastnictví či zastavení produktivní čin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5207A-446E-4BBD-A0EF-894E9D7CD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a o udržiteln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držitelnost je specifikována v právním aktu dle žádosti příjemce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jetek pořízený v křížovém financování musí být nadále využíván v souladu s podporo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 dokládá udržitelnost projektu monitorovací zprávou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jednou za rok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jpozději do 2 měsíců od uplynutí prvního ročního období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7B127-BBDD-4E63-A3F2-A0547C856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09-07T14:45:14Z</dcterms:modified>
  <cp:revision>182</cp:revision>
  <dc:subject/>
  <dc:title>Titulní strana – Titulek</dc:title>
</cp:coreProperties>
</file>